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6.pct" ContentType="image/x-pict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7.pct" ContentType="image/x-pict"/>
  <Override PartName="/ppt/media/image10.png" ContentType="image/png"/>
  <Override PartName="/ppt/media/image8.pct" ContentType="image/x-pict"/>
  <Override PartName="/ppt/media/image13.pct" ContentType="image/x-pict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2E1C-A944-4F1D-9B0C-E64F1D19B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; to share the Web 2.0 programs that I have used in the past year since receiving the PSLA professional Development award. Aim is to give you ideas to take back to school to use in your library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note speaker is Malcolm Glad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en Br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ites you can use and they are all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F89-C9F1-46DA-ACAA-2F3164D6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C1D-6A09-40E3-A496-667DF80F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6C4-9313-46BB-B6C6-029A7DE5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ADA-ED15-4EA1-B99D-1B972C9F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0663-08B3-4A91-820B-E6DA60B1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1227-3D85-4CD3-A4A8-430E17D6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D042-E2A1-47B8-97D5-EEE44A43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4808-8BF6-43EE-90C3-A4C159FD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278E-ABE4-4C8D-A667-E1BF6F91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BC4B-5EE5-4A79-98ED-B1901A6B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3E42-4AA9-496A-A5D5-3541923A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01B-CA5F-4C06-B343-BC964110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0FE2-2B64-4A4B-96AA-ACB3531D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959F-215E-42F6-BA11-DFECE0B2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1B07-A025-4B36-80ED-B94F3682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0B03-FC5E-41FC-B931-934FDEEB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6600-B439-498A-A2CE-3BD4EE8E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44F-1B7D-4FB7-B54F-6636D092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B6B-70B2-4BFA-901E-88BCED33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D27-11CC-4EA8-8E92-B28A9D05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0D0-6863-441A-AC47-4E9912A7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EDA-C5B8-469D-A092-410E17AF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21D-C40A-4301-AB14-FE1FEA0A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35A-8024-4DDE-A8F5-4A7475E6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974B-DCA2-4148-B0B3-17751C7BE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8B34-D9E6-48A4-BE62-27121E1815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43a1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nimoto.com/" TargetMode="External"/><Relationship Id="rId2" Type="http://schemas.openxmlformats.org/officeDocument/2006/relationships/hyperlink" Target="http://animoto.com/" TargetMode="External"/><Relationship Id="rId3" Type="http://schemas.openxmlformats.org/officeDocument/2006/relationships/hyperlink" Target="http://animoto.com/" TargetMode="External"/><Relationship Id="rId4" Type="http://schemas.openxmlformats.org/officeDocument/2006/relationships/hyperlink" Target="http://www.mixbook.com/" TargetMode="External"/><Relationship Id="rId5" Type="http://schemas.openxmlformats.org/officeDocument/2006/relationships/hyperlink" Target="http://www.mixbook.com/" TargetMode="External"/><Relationship Id="rId6" Type="http://schemas.openxmlformats.org/officeDocument/2006/relationships/hyperlink" Target="http://www.mixbook.com/" TargetMode="External"/><Relationship Id="rId7" Type="http://schemas.openxmlformats.org/officeDocument/2006/relationships/hyperlink" Target="http://www.mixbook.com/gallery/education" TargetMode="External"/><Relationship Id="rId8" Type="http://schemas.openxmlformats.org/officeDocument/2006/relationships/hyperlink" Target="http://www.mixbook.com/gallery/education" TargetMode="External"/><Relationship Id="rId9" Type="http://schemas.openxmlformats.org/officeDocument/2006/relationships/hyperlink" Target="http://www.mixbook.com/gallery/education" TargetMode="External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nimoto.com/play/WJFleQpkTZY2zXTK1pODiA?autostart=true" TargetMode="External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imoto.com/play/sbDNI6nSN1UFOdc6qyNbrg?autostart=true" TargetMode="External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bwiki.com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ashwirc.blogspot.com/" TargetMode="External"/><Relationship Id="rId2" Type="http://schemas.openxmlformats.org/officeDocument/2006/relationships/hyperlink" Target="http://jansweb20journey.blogspot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enter.uoregon.edu/ISTE/NECC2009/" TargetMode="External"/><Relationship Id="rId2" Type="http://schemas.openxmlformats.org/officeDocument/2006/relationships/hyperlink" Target="http://center.uoregon.edu/ISTE/NECC2009/" TargetMode="External"/><Relationship Id="rId3" Type="http://schemas.openxmlformats.org/officeDocument/2006/relationships/hyperlink" Target="http://center.uoregon.edu/ISTE/NECC2009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amazon.com/gp/mpd/permalink/m18KFIH7XSEF5H" TargetMode="External"/><Relationship Id="rId2" Type="http://schemas.openxmlformats.org/officeDocument/2006/relationships/hyperlink" Target="http://www.amazon.com/gp/mpd/permalink/m18KFIH7XSEF5H" TargetMode="External"/><Relationship Id="rId3" Type="http://schemas.openxmlformats.org/officeDocument/2006/relationships/hyperlink" Target="http://www.amazon.com/gp/mpd/permalink/m18KFIH7XSEF5H" TargetMode="External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wikispaces.com/site/for/teacher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ordle.net/" TargetMode="External"/><Relationship Id="rId2" Type="http://schemas.openxmlformats.org/officeDocument/2006/relationships/hyperlink" Target="http://www.wordle.net/" TargetMode="External"/><Relationship Id="rId3" Type="http://schemas.openxmlformats.org/officeDocument/2006/relationships/hyperlink" Target="http://www.wordle.net/" TargetMode="External"/><Relationship Id="rId4" Type="http://schemas.openxmlformats.org/officeDocument/2006/relationships/hyperlink" Target="http://voicethread.com/" TargetMode="External"/><Relationship Id="rId5" Type="http://schemas.openxmlformats.org/officeDocument/2006/relationships/hyperlink" Target="http://voicethread.com/" TargetMode="External"/><Relationship Id="rId6" Type="http://schemas.openxmlformats.org/officeDocument/2006/relationships/hyperlink" Target="http://voicethread.com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Jan’s Web 2.0 Journey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8240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Mark’s Favorite Sit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http: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//animoto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.com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 Impressive multimedia projects from your images. Sign up for the educator ac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  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4"/>
              </a:rPr>
              <a:t>http://www.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5"/>
              </a:rPr>
              <a:t>mixbook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6"/>
              </a:rPr>
              <a:t>.com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 Digital scrapbooks. These are so cool and such a powerful tool. Check out the education gallery: 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7"/>
              </a:rPr>
              <a:t>http://www.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8"/>
              </a:rPr>
              <a:t>mixbook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9"/>
              </a:rPr>
              <a:t>.com/gallery/edu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 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ign up @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experienc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Flickr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SL Ren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Conference pictures</a:t>
            </a:r>
            <a:br>
              <a:rPr sz="4400"/>
            </a:b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85840" y="1219320"/>
            <a:ext cx="5257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s - Rode the b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vis’ pink cad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on - Second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ver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Macintosh HD:Users:albright_j:Desktop:animoto_video-1.mp4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5487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nimoto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Macintosh HD:Users:albright_j:Desktop:animoto_video.mp4" descr=""/>
          <p:cNvPicPr/>
          <p:nvPr/>
        </p:nvPicPr>
        <p:blipFill>
          <a:blip r:embed="rId2"/>
          <a:stretch/>
        </p:blipFill>
        <p:spPr>
          <a:xfrm>
            <a:off x="3048120" y="2438280"/>
            <a:ext cx="5487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log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http://pbwiki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cahslibrary.pbwiki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log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http://cashwirc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aweb20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http://jansweb20journey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Podcast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ty Rap to the tune of Soldier 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Macintosh HD:Users:albright_j:Desktop:Connellsville High Diversity.mov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PODCAST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use podcasts in the libr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Macintosh HD:Users:albright_j:Desktop:French Club Flute.mov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Valley of the Shadow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384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93640" y="6372360"/>
            <a:ext cx="771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80" y="6172200"/>
            <a:ext cx="104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ommons.wikimedia.org/wiki/File:Valley_of_the_Shadow_of_Death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National Education Computing</a:t>
            </a:r>
            <a:r>
              <a:rPr b="0" lang="en-US" sz="44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44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Conferenc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9480" y="1905120"/>
            <a:ext cx="815364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WPSLA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Reading promotio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&amp;N @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pro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exce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rkus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UTHOR STOR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's author store - Laurie Halse And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Macintosh HD:Users:albright_j:Desktop:speak.mov" descr=""/>
          <p:cNvPicPr/>
          <p:nvPr/>
        </p:nvPicPr>
        <p:blipFill>
          <a:blip r:embed="rId1"/>
          <a:stretch/>
        </p:blipFill>
        <p:spPr>
          <a:xfrm>
            <a:off x="4521240" y="25146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The Forest of Hands and Teeth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19320" y="1965240"/>
            <a:ext cx="70992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Forest of Hands and Teeth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amazon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.com/gp/mpd/permalink/m18KFIH7XSEF5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Macintosh HD:Users:albright_j:Desktop:Amazon.com - Entertainment - Explore &quot;The Forest of Hands and Teeth&quot;.mov" descr=""/>
          <p:cNvPicPr/>
          <p:nvPr/>
        </p:nvPicPr>
        <p:blipFill>
          <a:blip r:embed="rId4"/>
          <a:stretch/>
        </p:blipFill>
        <p:spPr>
          <a:xfrm>
            <a:off x="4521240" y="25146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ARNES &amp; NOBLE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@ SCHOOL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61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arnes &amp; Noble @ School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Video Camera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RCA Camera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Wikispac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Wikispaces fo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s for the Futur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ing for conference makes you an ISTE m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&amp; Leading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Discovery Educatio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iscoveryeducation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Wordl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wordl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PA Politician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558720" y="2057400"/>
            <a:ext cx="9702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Recap - Now what?</a:t>
            </a:r>
            <a:br>
              <a:rPr sz="4400"/>
            </a:b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ers/resp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technology every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NECC 2008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-lessons and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up for pr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.. Learning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Teacher Experience Exchang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ccording to Mark @ Teacher Exchang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2.0 is any website where you can create cont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Definition of web 2.0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loaded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Macintosh HD:Users:albright_j:Desktop:NLlGopyXT_g.mov" descr=""/>
          <p:cNvPicPr/>
          <p:nvPr/>
        </p:nvPicPr>
        <p:blipFill>
          <a:blip r:embed="rId1"/>
          <a:stretch/>
        </p:blipFill>
        <p:spPr>
          <a:xfrm>
            <a:off x="4521240" y="25146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ccording to Mark @ Teacher Exchang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impact education? I think these sites are so important to education because your students can create (higher level Bloom’s) amazing projects (project-based learning) that engage 21st Century learners with little or no cost.” 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Mark’s Favorite Sit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wordle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 Co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 Cloud generator (kids love it!). After your kids write stories or poem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le them!  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4"/>
              </a:rPr>
              <a:t>http: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5"/>
              </a:rPr>
              <a:t>//voicethread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6"/>
              </a:rPr>
              <a:t>.com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 The end of boring slideshows. Sign up for the educator account.  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6:21:04Z</dcterms:created>
  <dc:creator>casd</dc:creator>
  <dc:description/>
  <dc:language>en-US</dc:language>
  <cp:lastModifiedBy>casd</cp:lastModifiedBy>
  <dcterms:modified xsi:type="dcterms:W3CDTF">2009-05-03T22:09:42Z</dcterms:modified>
  <cp:revision>70</cp:revision>
  <dc:subject/>
  <dc:title>Jan’s Web 2.0 Journey</dc:title>
</cp:coreProperties>
</file>